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78879F-1E38-4DA0-81FE-EA915E1BB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CCA9BC-16BF-42A9-9306-8D7D1094B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DDA452-B3AC-497E-A391-FDC9F2308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D6CE75-DBA1-4BE6-9E22-47980CE73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5CFF4-5846-4A34-A5FD-08754CB20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B733A-C56B-4DCB-AFA4-38A19A26A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16BB2-EB53-4B79-8E9B-56826B8FD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0759D-C719-43B6-9550-DB2A2FC27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61E9-42B5-4FDB-AA76-03E359C22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357CC-2B5F-4D7B-A1BF-755A1D9D6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A64BB-54CD-4F24-A52F-9E36E30C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BD3BB5-A676-4357-B181-EEFB24C02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F7426-0621-4D17-B475-FAF612A7E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48FB9-4FBB-4760-9F5E-385F57C4A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E54DF-7307-4090-8662-71B17CD98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6C49F-6DCB-498C-8A05-62F0AC353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16015-7575-47FA-AAEB-793CF4A94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481698-5ACC-44E1-91F8-FBABB1700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524F18-5007-4E9C-A908-2B6353CEE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216715-1B68-459F-834B-96FD7EC27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CC7C0E-78D6-4BE0-BDEE-9FBAD3680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84F1D5-624D-42F1-9A2C-44058A221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DF290-6E3F-4BFA-83FF-6055EBF70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540A7-14A9-4EA2-A710-5E63D6B4CE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4682-F4FF-4260-A291-6E7F68A0FE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0B64-9888-4D18-83C5-88C4FF093E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ftware Quality Assuranc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5</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24835E9-E1B0-41C6-871D-3952A5EAA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s Activities - 3</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deviations in software work and work products are documented and handled according to a documented proced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any noncompliance and reports to senior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985C1B-2EBD-4802-BCD8-A1E8F2A9C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Plan - 1</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 to be performed</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s and reviews to be performed</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that are applicable to the project</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for error reporting and track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0B0CC8-6D84-4F5E-A6D1-AA2D9220DF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Plan - 2</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s to be produced by the SQA group</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feedback provided to the software project team</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we’ll discuss SQA Plan in detail later in the cour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9089BC-5483-4EA6-A2CE-A9493946E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Personnel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are under-pa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are let go first in times of cris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p-gun” SQA personnel and managers with proven track record are in high demand from companies that have active QA progra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F1B8A-A09C-404C-B1F0-DAE8515BA4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of Software Quality - 1                                  </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prevention co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satisfaction optimization co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quality defect prevention co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quality defect removal co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wareness/training co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test defect removal cos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defect removal cos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2FE906-5715-44BD-85C5-F778079552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osts of Software Quality</a:t>
            </a:r>
            <a:endParaRPr b="0" lang="en-US" sz="5000" spc="-1" strike="noStrike">
              <a:solidFill>
                <a:srgbClr val="ffffff"/>
              </a:solidFill>
              <a:latin typeface="Arial"/>
            </a:endParaRPr>
          </a:p>
        </p:txBody>
      </p:sp>
      <p:sp>
        <p:nvSpPr>
          <p:cNvPr id="13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9C3A582-37F8-4B50-89E2-E97F50C52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of Software Quality - 2</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release customer support cost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igation and damage award cost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savings from reduced scrap/rework</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savings from reduced user downtim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value from reduced time-to-market interv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CBE361-D5EE-457C-96A9-8CD0579E6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of Software Quality - 3</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value from enhanced competitive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value from enhanced employee mora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return on invest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1BDBD3-490E-4367-A291-78F1118BF0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conomics of Software Quality</a:t>
            </a:r>
            <a:endParaRPr b="0" lang="en-US" sz="5000" spc="-1" strike="noStrike">
              <a:solidFill>
                <a:srgbClr val="ffffff"/>
              </a:solidFill>
              <a:latin typeface="Arial"/>
            </a:endParaRPr>
          </a:p>
        </p:txBody>
      </p:sp>
      <p:sp>
        <p:nvSpPr>
          <p:cNvPr id="14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A75EBFC-065E-4EBE-89C8-DCB982382B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of Software Quality - 1</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pplications have shorter development schedules than low quality applications because they do not get hung up in integration and testing due to excessive defect leve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23DD34-436B-4E70-9F46-4F0BFD2DF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Approaches and High Software Quality - 1</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automated project estimation methods</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automated project planning methods</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early and automated estimates of software defect potentials</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early and automated estimates of software defect removal efficiency</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risk-analys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F806F4-4144-47D5-A6E7-2132FC14AE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of Software Quality - 2</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pplications have lower development and maintenance costs than low quality applications.  This is because the cumulative costs of finding and fixing bugs is often the major cost driver for software proj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A2ADFF-5A7B-49DC-A75B-0A204BA52C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of Software Quality - 3</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pplications have better reliability levels and longer mean times to failure than low quality appl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commercial software packages have larger market shares than low quality commercial software packa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919AF8-DE16-4A75-BA4A-9645C401E3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of Software Quality - 4</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achieves better user-satisfaction ratings than low quality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software projects score better on employee morale surveys than do low quality software proj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3E7A12-CC54-4334-A17F-9FD76AED81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of Software Quality - 5</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quality software produced under contract or an outsource agreement has a much lower probability of ending up in court for breach of contract or malpractice litigation than low quality softwa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quality software benefits or augments the performance levels of users, while poor quality tends to degrade worker performa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F91F80-DDA0-487A-8D6D-F7D4CE36F1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of Software Quality - 6</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software can trigger truly massive unplanned expense levels.  Denver airport examp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3E5589-8C07-43D9-8790-63F03776CA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Oriented Software Quality Assurance by Frank Gina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actitioner’s Approach to Software Engineering by Roger Pressm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DB101-BE9F-4A60-9E5A-7A4FD1866C0F}"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Approaches and High Software Quality - 2</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sion of adequate time for pre-test inspection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quality data from similar projects available</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estone tracking automated and thorough</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tracking automated and thorough</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focus concentrated on achieving excellent resul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E264F0-A092-4081-AA43-791DF197B4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Approaches and Poor Software Quality</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ct opposite of the project management approaches correlating with high software quality</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revious lecture we talked about a software quality assurance (or SQA) group. Let’s now see what is an SQA group, why we need it, and what are it’s activit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A87E89-42A5-47BB-A653-2B189C834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 - 1</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company, which wants to establish a reputation for producing high quality software, must establish a Software Quality Assurance (SQA) Group within the compan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oups must be funded properly and management must pay attention to the reports and presentations made by this group</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E952B6-7386-4C5A-B0F9-61A6DEB672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 - 2</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group report directly to the line- management and not to the project management</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nel of the SQA group must work with the project management team, and vice versa to produce high quality software for the company – which is the ultimate go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1F936B-DA0B-4758-A8E8-2A34C1904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QA group is needed to monitor the quality assurance-related activities in a compan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019D6C-CA18-4703-A2D4-ED476148C0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s Activities - 1</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of an SQA plan for a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the development of the project’s software process descrip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software engineering activities to verify compliance with the defined software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4CEAC-B787-48C3-9019-B3DE2F2B8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Group’s Activities - 2</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of designed software work products to verify compliance with those defined as part of the software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81A694-FC13-425E-B911-24EAE80B1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03:38Z</dcterms:created>
  <dc:creator>Ghulam Ahmad Farrukh</dc:creator>
  <dc:description/>
  <dc:language>en-US</dc:language>
  <cp:lastModifiedBy>ahmadmohsin</cp:lastModifiedBy>
  <dcterms:modified xsi:type="dcterms:W3CDTF">2009-04-14T04:36:57Z</dcterms:modified>
  <cp:revision>226</cp:revision>
  <dc:subject/>
  <dc:title>Software Quality Management</dc:title>
</cp:coreProperties>
</file>